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wmf" ContentType="image/x-wmf"/>
  <Override PartName="/ppt/media/image8.jpeg" ContentType="image/jpeg"/>
  <Override PartName="/ppt/media/image15.jpeg" ContentType="image/jpeg"/>
  <Override PartName="/ppt/media/image14.wmf" ContentType="image/x-wmf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jpeg" ContentType="image/jpe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D3B4-0F26-4567-81E6-FC6DE29A6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5B00-A98E-4062-8892-5588422F6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02B13E-6CD9-4F95-B932-FD0128511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DC10B1-8601-4CCD-8628-886F6492B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FD934B-2FBB-4FD6-8180-057467AEA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F7A654-5F5D-4C89-827B-19A2EAC1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F69478-E854-4DBD-8FFC-38E240CD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0FDF04-DC2A-438E-BC2B-12A9B0F11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E1AD0F-4475-4246-B9B0-58B3BF165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918977-C70E-45DE-BBB2-E11299DC7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8BD685-DA15-4E72-B4E4-764305123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D5D3DF-C2F9-4562-8811-16BC45D3D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E5B3-3027-4E06-AD60-462B34E43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DB1225-2E82-48EA-8FEC-6EE103184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2618DA-679C-490F-821A-AC1887F33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9F34F7-372A-4F89-9889-16DF70470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714BF9-4239-42ED-91EE-61D8A06EA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779D6E-29E1-4D98-8E96-AECA8DBB7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B99774-CCEC-4657-A2A0-FC332CC25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2ABC74-8CC3-4BCB-93B2-930BCF0BD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3D6C97-A336-4FF7-89DF-AEC4AAB04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83CA95-8429-40DF-A86D-433718172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DA4DE2-4314-45E8-9D40-DA24D0C98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D062-7B60-4695-80EF-248F196DB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5FD1DD-6B3D-4D60-A332-9DE0EDDA3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D7E928-6DF6-41C8-98B8-C56B7F9CF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6464C9-CFEB-4820-B7E2-DE0CA824B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43C8E4-E132-4545-A244-28A328824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988477-36E3-439F-BC8F-EE60C1A03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22E265-90BE-4512-873F-01C0345BF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BB1D81-AF04-4FA1-810E-332D32FC8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8DA273-55B1-4BC0-928A-2852BA8D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5AEF02-ECBB-427B-BF98-DAEC63DC5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F57CE7-C5E6-4B1D-9AEB-76A42074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9AE613-5CE9-41CD-A943-F19606115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26AE16-1D27-4A8D-BA7C-078AA0876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C4D8B1-F68F-4777-A670-B6248B35F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B1CB35-A1CB-48FA-A7D1-EDE953670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C830C4-D14B-4628-9CB3-1F4C82D63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4748E7-79C4-420D-9754-2EA79C5B5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B4E18E-C8F3-4B11-8F25-817A47728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C7FA41-1AFC-4DCB-A1AF-1F7298757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01D29B-B0D7-4789-83EE-BD8746418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D0731C-C2D2-4E9A-8ED4-235DEAE00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0D7B3C-581D-4426-8526-90CA219E9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92D7A2-811C-4902-A60A-CC5E0465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679FBD-10A8-470F-81E8-96E2D69DB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C56EC1-F5B5-415A-8B5D-29BEE5589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D1F883-39BA-440E-9ADF-AB6BE9A2B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DEFA-3AD0-4A3C-B92B-4BA212912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7149-99A7-4717-B45F-D9472796A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EE09F-873F-4542-B51A-340360ABA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C0123-7A33-45BF-88FE-EBA10191D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A2503-651A-4938-A09E-EA30919FD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8738-1EF1-4E56-B626-0A928F393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FC013-DB4D-4A57-973C-F6BA51617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FF21A-330F-4F37-A3D4-79DB1C6F7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C5E1B-20AF-4FF7-94E3-46B71884D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D3EF2-FB39-4B92-BA47-93827B843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677D3-C200-42AA-A227-0F5EEF09A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F4E4B-E5E4-4A39-9096-846F1C83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FF967-2730-4FB9-B948-D6687D46B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F0E4F-2076-454B-B258-8394696EE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28D0A-9C3E-4384-9B09-81B7663CF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1EC2A-EEAE-4D81-9EE6-7840FC017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D3E6-6CD4-4B0A-969E-D8CD1C323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C865C-3DAA-4D22-A760-D605C572A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BFF1A-B008-4795-BC07-546F083A3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99251-1773-4A7C-9206-47B6435DE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2DB0B-C310-4DA0-8FCD-8FB0027D9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963BB-34A5-4E9B-B7EC-14CA6DD4A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07CD6-DDE5-4CF7-83BA-9D485A20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D3AD1-02F4-4A49-AB5F-4BDB033A3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7E252-986A-4B97-A2D1-BEDD9F31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AB7FD-BC71-4164-88EA-CBC2C9901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1F286-1B53-463B-A777-0E8EE2B83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E5D3-9BF1-4DF6-B3B1-7ABC3BDED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7706A-7BD1-4470-9F27-745E44898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2B92A-FA94-4820-92D8-55DB7A9D1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E2E57-93C0-446B-BD93-B75C48EE1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02261-2A4F-4DBB-8D33-856FAC741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64516-18AB-4293-8908-EAC6B4A47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18F63-BE49-407C-A809-41084DDD0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190AF-6A0E-4DD4-B627-9F23F0C42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E9C61-39E3-4E3D-B531-B54A4DBE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ACCEC-0DE4-4B30-A050-7724078F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FF66E-BE2C-4323-97D4-EA119146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305E-3DDB-4180-BE74-63E1C5092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A2CD3-2078-48D5-BB1F-7F66636BD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A6114-33DD-42A0-9D5A-C943514EE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03D18-52FC-4B28-8240-967215433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844A4C-8839-435E-A393-218B3B6EE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0E636D-82AF-4905-A85D-57E26538A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5D41A1-9DCA-4EAA-B627-EFF86A34E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0F245-8018-4504-8BE5-1256FFF18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720C47-F76F-411F-AA34-1975CD1DE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04A29-C7FA-43B0-ABBF-15CFC8B91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C8BFD-7B93-47AB-8349-2F39626AA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1D73-C5FD-492B-8E3E-BD1423C18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D043C7-F092-46F0-AC37-C9735EDCD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CE2D3-ACFF-48CF-84C1-1AF85E0D3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FCAF3D-AF4C-4E97-A3C7-AB00B37DB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E0DE74-3E9E-448D-B1E9-EC0F3104F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10B50C-6D30-49E3-B298-74024C395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B246F-EDEC-4A5B-8638-1EEB70F71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F117BA-F5A0-4C87-9833-1A67D2EA6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4C9ED9-7E87-4123-9DF2-9752ECA74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73CBAB-5794-4A8F-A620-42BDC1780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27F5B7-08D4-4DA2-9751-FA971719E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54BC-448C-4C4D-A6DE-E72F8B3C6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BAF0BE-C034-4E93-B47A-05EA36AC7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C60374-A565-4893-80BD-80CDA17BD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92E628-B515-49A2-8413-73BF80341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34FE87-E113-4A13-B9C0-B724AF870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9797B3-B226-45B3-8D27-8435EF65E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97A02D-904E-49BE-BC13-1F37D4B55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F03CE5-E300-4A7C-849A-79D8873BA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7D23C9-DC32-43A4-B8A9-B575960F3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066C15-8443-4D71-BB77-D939F880E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215890-2EEA-4A97-9280-380DF470E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E58CF-164D-427D-A603-CAE0870150FD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2" descr="http://2.bp.blogspot.com/-4yZdP94Rr2E/VMFOZvURApI/AAAAAAAACts/8Il7ZYJ3pgo/s1600/biomustrans.png"/>
          <p:cNvPicPr/>
          <p:nvPr/>
        </p:nvPicPr>
        <p:blipFill>
          <a:blip r:embed="rId2"/>
          <a:stretch/>
        </p:blipFill>
        <p:spPr>
          <a:xfrm>
            <a:off x="112680" y="6216480"/>
            <a:ext cx="2906640" cy="695520"/>
          </a:xfrm>
          <a:prstGeom prst="rect">
            <a:avLst/>
          </a:prstGeom>
          <a:ln w="0">
            <a:noFill/>
          </a:ln>
        </p:spPr>
      </p:pic>
      <p:pic>
        <p:nvPicPr>
          <p:cNvPr id="388" name="Imagen 8" descr=""/>
          <p:cNvPicPr/>
          <p:nvPr/>
        </p:nvPicPr>
        <p:blipFill>
          <a:blip r:embed="rId3"/>
          <a:srcRect l="18578" t="23879" r="16562" b="23602"/>
          <a:stretch/>
        </p:blipFill>
        <p:spPr>
          <a:xfrm>
            <a:off x="10429920" y="6175440"/>
            <a:ext cx="1563480" cy="549360"/>
          </a:xfrm>
          <a:prstGeom prst="rect">
            <a:avLst/>
          </a:prstGeom>
          <a:ln w="0">
            <a:noFill/>
          </a:ln>
        </p:spPr>
      </p:pic>
      <p:sp>
        <p:nvSpPr>
          <p:cNvPr id="389" name="CuadroTexto 9"/>
          <p:cNvSpPr/>
          <p:nvPr/>
        </p:nvSpPr>
        <p:spPr>
          <a:xfrm>
            <a:off x="241200" y="7920"/>
            <a:ext cx="1195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767171"/>
                </a:solidFill>
                <a:latin typeface="Calibri"/>
              </a:rPr>
              <a:t>SEMINARIO Y PREMIO INTERNACIONAL </a:t>
            </a:r>
            <a:r>
              <a:rPr b="1" lang="es-ES_tradnl" sz="1600" spc="-1" strike="noStrike">
                <a:solidFill>
                  <a:srgbClr val="595959"/>
                </a:solidFill>
                <a:latin typeface="Calibri"/>
              </a:rPr>
              <a:t>BUENAS PRACTICAS DE GESTION PUBLICA Y SERVICIOS INTELIG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FB860-CB7D-40EF-8958-5F4199A95C5B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Picture 2" descr="http://2.bp.blogspot.com/-4yZdP94Rr2E/VMFOZvURApI/AAAAAAAACts/8Il7ZYJ3pgo/s1600/biomustrans.png"/>
          <p:cNvPicPr/>
          <p:nvPr/>
        </p:nvPicPr>
        <p:blipFill>
          <a:blip r:embed="rId2"/>
          <a:stretch/>
        </p:blipFill>
        <p:spPr>
          <a:xfrm>
            <a:off x="112680" y="6216480"/>
            <a:ext cx="2906640" cy="695520"/>
          </a:xfrm>
          <a:prstGeom prst="rect">
            <a:avLst/>
          </a:prstGeom>
          <a:ln w="0">
            <a:noFill/>
          </a:ln>
        </p:spPr>
      </p:pic>
      <p:pic>
        <p:nvPicPr>
          <p:cNvPr id="432" name="Imagen 7" descr=""/>
          <p:cNvPicPr/>
          <p:nvPr/>
        </p:nvPicPr>
        <p:blipFill>
          <a:blip r:embed="rId3"/>
          <a:srcRect l="18578" t="23879" r="16562" b="23602"/>
          <a:stretch/>
        </p:blipFill>
        <p:spPr>
          <a:xfrm>
            <a:off x="10429920" y="6175440"/>
            <a:ext cx="1563480" cy="549360"/>
          </a:xfrm>
          <a:prstGeom prst="rect">
            <a:avLst/>
          </a:prstGeom>
          <a:ln w="0">
            <a:noFill/>
          </a:ln>
        </p:spPr>
      </p:pic>
      <p:sp>
        <p:nvSpPr>
          <p:cNvPr id="433" name="CuadroTexto 8"/>
          <p:cNvSpPr/>
          <p:nvPr/>
        </p:nvSpPr>
        <p:spPr>
          <a:xfrm>
            <a:off x="241200" y="7920"/>
            <a:ext cx="1195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767171"/>
                </a:solidFill>
                <a:latin typeface="Calibri"/>
              </a:rPr>
              <a:t>SEMINARIO Y PREMIO INTERNACIONAL </a:t>
            </a:r>
            <a:r>
              <a:rPr b="1" lang="es-ES_tradnl" sz="1600" spc="-1" strike="noStrike">
                <a:solidFill>
                  <a:srgbClr val="595959"/>
                </a:solidFill>
                <a:latin typeface="Calibri"/>
              </a:rPr>
              <a:t>BUENAS PRACTICAS DE GESTION PUBLICA Y SERVICIOS INTELIG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648E1-FE7C-4FF0-86E6-5045CF89FE67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Picture 2" descr="http://2.bp.blogspot.com/-4yZdP94Rr2E/VMFOZvURApI/AAAAAAAACts/8Il7ZYJ3pgo/s1600/biomustrans.png"/>
          <p:cNvPicPr/>
          <p:nvPr/>
        </p:nvPicPr>
        <p:blipFill>
          <a:blip r:embed="rId2"/>
          <a:stretch/>
        </p:blipFill>
        <p:spPr>
          <a:xfrm>
            <a:off x="112680" y="6216480"/>
            <a:ext cx="2906640" cy="695520"/>
          </a:xfrm>
          <a:prstGeom prst="rect">
            <a:avLst/>
          </a:prstGeom>
          <a:ln w="0">
            <a:noFill/>
          </a:ln>
        </p:spPr>
      </p:pic>
      <p:pic>
        <p:nvPicPr>
          <p:cNvPr id="476" name="Imagen 7" descr=""/>
          <p:cNvPicPr/>
          <p:nvPr/>
        </p:nvPicPr>
        <p:blipFill>
          <a:blip r:embed="rId3"/>
          <a:srcRect l="18578" t="23879" r="16562" b="23602"/>
          <a:stretch/>
        </p:blipFill>
        <p:spPr>
          <a:xfrm>
            <a:off x="10429920" y="6175440"/>
            <a:ext cx="1563480" cy="549360"/>
          </a:xfrm>
          <a:prstGeom prst="rect">
            <a:avLst/>
          </a:prstGeom>
          <a:ln w="0">
            <a:noFill/>
          </a:ln>
        </p:spPr>
      </p:pic>
      <p:sp>
        <p:nvSpPr>
          <p:cNvPr id="477" name="CuadroTexto 8"/>
          <p:cNvSpPr/>
          <p:nvPr/>
        </p:nvSpPr>
        <p:spPr>
          <a:xfrm>
            <a:off x="241200" y="7920"/>
            <a:ext cx="1195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767171"/>
                </a:solidFill>
                <a:latin typeface="Calibri"/>
              </a:rPr>
              <a:t>SEMINARIO Y PREMIO INTERNACIONAL </a:t>
            </a:r>
            <a:r>
              <a:rPr b="1" lang="es-ES_tradnl" sz="1600" spc="-1" strike="noStrike">
                <a:solidFill>
                  <a:srgbClr val="595959"/>
                </a:solidFill>
                <a:latin typeface="Calibri"/>
              </a:rPr>
              <a:t>BUENAS PRACTICAS DE GESTION PUBLICA Y SERVICIOS INTELIG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CACD0-8D2E-4C40-B8A1-E25C2AFF940C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2.bp.blogspot.com/-4yZdP94Rr2E/VMFOZvURApI/AAAAAAAACts/8Il7ZYJ3pgo/s1600/biomustrans.png"/>
          <p:cNvPicPr/>
          <p:nvPr/>
        </p:nvPicPr>
        <p:blipFill>
          <a:blip r:embed="rId2"/>
          <a:stretch/>
        </p:blipFill>
        <p:spPr>
          <a:xfrm>
            <a:off x="155520" y="5905440"/>
            <a:ext cx="4816440" cy="1152720"/>
          </a:xfrm>
          <a:prstGeom prst="rect">
            <a:avLst/>
          </a:prstGeom>
          <a:ln w="0">
            <a:noFill/>
          </a:ln>
        </p:spPr>
      </p:pic>
      <p:pic>
        <p:nvPicPr>
          <p:cNvPr id="42" name="Imagen 6" descr=""/>
          <p:cNvPicPr/>
          <p:nvPr/>
        </p:nvPicPr>
        <p:blipFill>
          <a:blip r:embed="rId3"/>
          <a:srcRect l="18575" t="23854" r="16566" b="23601"/>
          <a:stretch/>
        </p:blipFill>
        <p:spPr>
          <a:xfrm>
            <a:off x="9866160" y="5978520"/>
            <a:ext cx="2127240" cy="746280"/>
          </a:xfrm>
          <a:prstGeom prst="rect">
            <a:avLst/>
          </a:prstGeom>
          <a:ln w="0">
            <a:noFill/>
          </a:ln>
        </p:spPr>
      </p:pic>
      <p:sp>
        <p:nvSpPr>
          <p:cNvPr id="43" name="CuadroTexto 7"/>
          <p:cNvSpPr/>
          <p:nvPr/>
        </p:nvSpPr>
        <p:spPr>
          <a:xfrm>
            <a:off x="2668680" y="95400"/>
            <a:ext cx="94377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767171"/>
                </a:solidFill>
                <a:latin typeface="Calibri"/>
              </a:rPr>
              <a:t>SEMINARIO Y PREMIO INTERN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95959"/>
                </a:solidFill>
                <a:latin typeface="Calibri"/>
              </a:rPr>
              <a:t>BUENAS PRACTICAS DE GESTION PUBLICA Y SERVICIOS INTELIG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http://2.bp.blogspot.com/-4yZdP94Rr2E/VMFOZvURApI/AAAAAAAACts/8Il7ZYJ3pgo/s1600/biomustrans.png"/>
          <p:cNvPicPr/>
          <p:nvPr/>
        </p:nvPicPr>
        <p:blipFill>
          <a:blip r:embed="rId2"/>
          <a:stretch/>
        </p:blipFill>
        <p:spPr>
          <a:xfrm>
            <a:off x="112680" y="6216480"/>
            <a:ext cx="2906640" cy="695520"/>
          </a:xfrm>
          <a:prstGeom prst="rect">
            <a:avLst/>
          </a:prstGeom>
          <a:ln w="0">
            <a:noFill/>
          </a:ln>
        </p:spPr>
      </p:pic>
      <p:pic>
        <p:nvPicPr>
          <p:cNvPr id="83" name="Imagen 7" descr=""/>
          <p:cNvPicPr/>
          <p:nvPr/>
        </p:nvPicPr>
        <p:blipFill>
          <a:blip r:embed="rId3"/>
          <a:srcRect l="18578" t="23879" r="16562" b="23602"/>
          <a:stretch/>
        </p:blipFill>
        <p:spPr>
          <a:xfrm>
            <a:off x="10429920" y="6175440"/>
            <a:ext cx="1563480" cy="549360"/>
          </a:xfrm>
          <a:prstGeom prst="rect">
            <a:avLst/>
          </a:prstGeom>
          <a:ln w="0">
            <a:noFill/>
          </a:ln>
        </p:spPr>
      </p:pic>
      <p:sp>
        <p:nvSpPr>
          <p:cNvPr id="84" name="CuadroTexto 8"/>
          <p:cNvSpPr/>
          <p:nvPr/>
        </p:nvSpPr>
        <p:spPr>
          <a:xfrm>
            <a:off x="241200" y="7920"/>
            <a:ext cx="1195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767171"/>
                </a:solidFill>
                <a:latin typeface="Calibri"/>
              </a:rPr>
              <a:t>SEMINARIO Y PREMIO INTERNACIONAL </a:t>
            </a:r>
            <a:r>
              <a:rPr b="1" lang="es-ES_tradnl" sz="1600" spc="-1" strike="noStrike">
                <a:solidFill>
                  <a:srgbClr val="595959"/>
                </a:solidFill>
                <a:latin typeface="Calibri"/>
              </a:rPr>
              <a:t>BUENAS PRACTICAS DE GESTION PUBLICA Y SERVICIOS INTELIG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http://2.bp.blogspot.com/-4yZdP94Rr2E/VMFOZvURApI/AAAAAAAACts/8Il7ZYJ3pgo/s1600/biomustrans.png"/>
          <p:cNvPicPr/>
          <p:nvPr/>
        </p:nvPicPr>
        <p:blipFill>
          <a:blip r:embed="rId2"/>
          <a:stretch/>
        </p:blipFill>
        <p:spPr>
          <a:xfrm>
            <a:off x="155520" y="5905440"/>
            <a:ext cx="4816440" cy="1152720"/>
          </a:xfrm>
          <a:prstGeom prst="rect">
            <a:avLst/>
          </a:prstGeom>
          <a:ln w="0">
            <a:noFill/>
          </a:ln>
        </p:spPr>
      </p:pic>
      <p:pic>
        <p:nvPicPr>
          <p:cNvPr id="124" name="Imagen 7" descr=""/>
          <p:cNvPicPr/>
          <p:nvPr/>
        </p:nvPicPr>
        <p:blipFill>
          <a:blip r:embed="rId3"/>
          <a:srcRect l="18575" t="23854" r="16566" b="23601"/>
          <a:stretch/>
        </p:blipFill>
        <p:spPr>
          <a:xfrm>
            <a:off x="9866160" y="5978520"/>
            <a:ext cx="2127240" cy="746280"/>
          </a:xfrm>
          <a:prstGeom prst="rect">
            <a:avLst/>
          </a:prstGeom>
          <a:ln w="0">
            <a:noFill/>
          </a:ln>
        </p:spPr>
      </p:pic>
      <p:sp>
        <p:nvSpPr>
          <p:cNvPr id="125" name="CuadroTexto 8"/>
          <p:cNvSpPr/>
          <p:nvPr/>
        </p:nvSpPr>
        <p:spPr>
          <a:xfrm>
            <a:off x="2668680" y="95400"/>
            <a:ext cx="94377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767171"/>
                </a:solidFill>
                <a:latin typeface="Calibri"/>
              </a:rPr>
              <a:t>SEMINARIO Y PREMIO INTERN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95959"/>
                </a:solidFill>
                <a:latin typeface="Calibri"/>
              </a:rPr>
              <a:t>BUENAS PRACTICAS DE GESTION PUBLICA Y SERVICIOS INTELIG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1467B-E599-4F6B-8940-AED5E4E2F9D8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http://2.bp.blogspot.com/-4yZdP94Rr2E/VMFOZvURApI/AAAAAAAACts/8Il7ZYJ3pgo/s1600/biomustrans.png"/>
          <p:cNvPicPr/>
          <p:nvPr/>
        </p:nvPicPr>
        <p:blipFill>
          <a:blip r:embed="rId2"/>
          <a:stretch/>
        </p:blipFill>
        <p:spPr>
          <a:xfrm>
            <a:off x="112680" y="6216480"/>
            <a:ext cx="2906640" cy="695520"/>
          </a:xfrm>
          <a:prstGeom prst="rect">
            <a:avLst/>
          </a:prstGeom>
          <a:ln w="0">
            <a:noFill/>
          </a:ln>
        </p:spPr>
      </p:pic>
      <p:pic>
        <p:nvPicPr>
          <p:cNvPr id="168" name="Imagen 8" descr=""/>
          <p:cNvPicPr/>
          <p:nvPr/>
        </p:nvPicPr>
        <p:blipFill>
          <a:blip r:embed="rId3"/>
          <a:srcRect l="18578" t="23879" r="16562" b="23602"/>
          <a:stretch/>
        </p:blipFill>
        <p:spPr>
          <a:xfrm>
            <a:off x="10429920" y="6175440"/>
            <a:ext cx="1563480" cy="549360"/>
          </a:xfrm>
          <a:prstGeom prst="rect">
            <a:avLst/>
          </a:prstGeom>
          <a:ln w="0">
            <a:noFill/>
          </a:ln>
        </p:spPr>
      </p:pic>
      <p:sp>
        <p:nvSpPr>
          <p:cNvPr id="169" name="CuadroTexto 9"/>
          <p:cNvSpPr/>
          <p:nvPr/>
        </p:nvSpPr>
        <p:spPr>
          <a:xfrm>
            <a:off x="241200" y="7920"/>
            <a:ext cx="1195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767171"/>
                </a:solidFill>
                <a:latin typeface="Calibri"/>
              </a:rPr>
              <a:t>SEMINARIO Y PREMIO INTERNACIONAL </a:t>
            </a:r>
            <a:r>
              <a:rPr b="1" lang="es-ES_tradnl" sz="1600" spc="-1" strike="noStrike">
                <a:solidFill>
                  <a:srgbClr val="595959"/>
                </a:solidFill>
                <a:latin typeface="Calibri"/>
              </a:rPr>
              <a:t>BUENAS PRACTICAS DE GESTION PUBLICA Y SERVICIOS INTELIG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20D8B-22CB-4A94-A3CD-18745AE84522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http://2.bp.blogspot.com/-4yZdP94Rr2E/VMFOZvURApI/AAAAAAAACts/8Il7ZYJ3pgo/s1600/biomustrans.png"/>
          <p:cNvPicPr/>
          <p:nvPr/>
        </p:nvPicPr>
        <p:blipFill>
          <a:blip r:embed="rId2"/>
          <a:stretch/>
        </p:blipFill>
        <p:spPr>
          <a:xfrm>
            <a:off x="112680" y="6216480"/>
            <a:ext cx="2906640" cy="695520"/>
          </a:xfrm>
          <a:prstGeom prst="rect">
            <a:avLst/>
          </a:prstGeom>
          <a:ln w="0">
            <a:noFill/>
          </a:ln>
        </p:spPr>
      </p:pic>
      <p:pic>
        <p:nvPicPr>
          <p:cNvPr id="212" name="Imagen 10" descr=""/>
          <p:cNvPicPr/>
          <p:nvPr/>
        </p:nvPicPr>
        <p:blipFill>
          <a:blip r:embed="rId3"/>
          <a:srcRect l="18578" t="23879" r="16562" b="23602"/>
          <a:stretch/>
        </p:blipFill>
        <p:spPr>
          <a:xfrm>
            <a:off x="10429920" y="6175440"/>
            <a:ext cx="1563480" cy="549360"/>
          </a:xfrm>
          <a:prstGeom prst="rect">
            <a:avLst/>
          </a:prstGeom>
          <a:ln w="0">
            <a:noFill/>
          </a:ln>
        </p:spPr>
      </p:pic>
      <p:sp>
        <p:nvSpPr>
          <p:cNvPr id="213" name="CuadroTexto 11"/>
          <p:cNvSpPr/>
          <p:nvPr/>
        </p:nvSpPr>
        <p:spPr>
          <a:xfrm>
            <a:off x="241200" y="7920"/>
            <a:ext cx="1195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767171"/>
                </a:solidFill>
                <a:latin typeface="Calibri"/>
              </a:rPr>
              <a:t>SEMINARIO Y PREMIO INTERNACIONAL </a:t>
            </a:r>
            <a:r>
              <a:rPr b="1" lang="es-ES_tradnl" sz="1600" spc="-1" strike="noStrike">
                <a:solidFill>
                  <a:srgbClr val="595959"/>
                </a:solidFill>
                <a:latin typeface="Calibri"/>
              </a:rPr>
              <a:t>BUENAS PRACTICAS DE GESTION PUBLICA Y SERVICIOS INTELIG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35369-3B7D-432E-9973-26C803B7ACD6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http://2.bp.blogspot.com/-4yZdP94Rr2E/VMFOZvURApI/AAAAAAAACts/8Il7ZYJ3pgo/s1600/biomustrans.png"/>
          <p:cNvPicPr/>
          <p:nvPr/>
        </p:nvPicPr>
        <p:blipFill>
          <a:blip r:embed="rId2"/>
          <a:stretch/>
        </p:blipFill>
        <p:spPr>
          <a:xfrm>
            <a:off x="112680" y="6216480"/>
            <a:ext cx="2906640" cy="695520"/>
          </a:xfrm>
          <a:prstGeom prst="rect">
            <a:avLst/>
          </a:prstGeom>
          <a:ln w="0">
            <a:noFill/>
          </a:ln>
        </p:spPr>
      </p:pic>
      <p:pic>
        <p:nvPicPr>
          <p:cNvPr id="256" name="Imagen 6" descr=""/>
          <p:cNvPicPr/>
          <p:nvPr/>
        </p:nvPicPr>
        <p:blipFill>
          <a:blip r:embed="rId3"/>
          <a:srcRect l="18578" t="23879" r="16562" b="23602"/>
          <a:stretch/>
        </p:blipFill>
        <p:spPr>
          <a:xfrm>
            <a:off x="10429920" y="6175440"/>
            <a:ext cx="1563480" cy="549360"/>
          </a:xfrm>
          <a:prstGeom prst="rect">
            <a:avLst/>
          </a:prstGeom>
          <a:ln w="0">
            <a:noFill/>
          </a:ln>
        </p:spPr>
      </p:pic>
      <p:sp>
        <p:nvSpPr>
          <p:cNvPr id="257" name="CuadroTexto 7"/>
          <p:cNvSpPr/>
          <p:nvPr/>
        </p:nvSpPr>
        <p:spPr>
          <a:xfrm>
            <a:off x="241200" y="7920"/>
            <a:ext cx="1195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767171"/>
                </a:solidFill>
                <a:latin typeface="Calibri"/>
              </a:rPr>
              <a:t>SEMINARIO Y PREMIO INTERNACIONAL </a:t>
            </a:r>
            <a:r>
              <a:rPr b="1" lang="es-ES_tradnl" sz="1600" spc="-1" strike="noStrike">
                <a:solidFill>
                  <a:srgbClr val="595959"/>
                </a:solidFill>
                <a:latin typeface="Calibri"/>
              </a:rPr>
              <a:t>BUENAS PRACTICAS DE GESTION PUBLICA Y SERVICIOS INTELIG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6FAE1-991F-464C-B394-21F59341BDEB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http://2.bp.blogspot.com/-4yZdP94Rr2E/VMFOZvURApI/AAAAAAAACts/8Il7ZYJ3pgo/s1600/biomustrans.png"/>
          <p:cNvPicPr/>
          <p:nvPr/>
        </p:nvPicPr>
        <p:blipFill>
          <a:blip r:embed="rId2"/>
          <a:stretch/>
        </p:blipFill>
        <p:spPr>
          <a:xfrm>
            <a:off x="112680" y="6216480"/>
            <a:ext cx="2906640" cy="695520"/>
          </a:xfrm>
          <a:prstGeom prst="rect">
            <a:avLst/>
          </a:prstGeom>
          <a:ln w="0">
            <a:noFill/>
          </a:ln>
        </p:spPr>
      </p:pic>
      <p:pic>
        <p:nvPicPr>
          <p:cNvPr id="300" name="Imagen 5" descr=""/>
          <p:cNvPicPr/>
          <p:nvPr/>
        </p:nvPicPr>
        <p:blipFill>
          <a:blip r:embed="rId3"/>
          <a:srcRect l="18578" t="23879" r="16562" b="23602"/>
          <a:stretch/>
        </p:blipFill>
        <p:spPr>
          <a:xfrm>
            <a:off x="10429920" y="6175440"/>
            <a:ext cx="1563480" cy="549360"/>
          </a:xfrm>
          <a:prstGeom prst="rect">
            <a:avLst/>
          </a:prstGeom>
          <a:ln w="0">
            <a:noFill/>
          </a:ln>
        </p:spPr>
      </p:pic>
      <p:sp>
        <p:nvSpPr>
          <p:cNvPr id="301" name="CuadroTexto 6"/>
          <p:cNvSpPr/>
          <p:nvPr/>
        </p:nvSpPr>
        <p:spPr>
          <a:xfrm>
            <a:off x="241200" y="7920"/>
            <a:ext cx="1195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767171"/>
                </a:solidFill>
                <a:latin typeface="Calibri"/>
              </a:rPr>
              <a:t>SEMINARIO Y PREMIO INTERNACIONAL </a:t>
            </a:r>
            <a:r>
              <a:rPr b="1" lang="es-ES_tradnl" sz="1600" spc="-1" strike="noStrike">
                <a:solidFill>
                  <a:srgbClr val="595959"/>
                </a:solidFill>
                <a:latin typeface="Calibri"/>
              </a:rPr>
              <a:t>BUENAS PRACTICAS DE GESTION PUBLICA Y SERVICIOS INTELIG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FA873-8688-4ED4-991B-744F7107FD19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http://2.bp.blogspot.com/-4yZdP94Rr2E/VMFOZvURApI/AAAAAAAACts/8Il7ZYJ3pgo/s1600/biomustrans.png"/>
          <p:cNvPicPr/>
          <p:nvPr/>
        </p:nvPicPr>
        <p:blipFill>
          <a:blip r:embed="rId2"/>
          <a:stretch/>
        </p:blipFill>
        <p:spPr>
          <a:xfrm>
            <a:off x="112680" y="6216480"/>
            <a:ext cx="2906640" cy="695520"/>
          </a:xfrm>
          <a:prstGeom prst="rect">
            <a:avLst/>
          </a:prstGeom>
          <a:ln w="0">
            <a:noFill/>
          </a:ln>
        </p:spPr>
      </p:pic>
      <p:pic>
        <p:nvPicPr>
          <p:cNvPr id="344" name="Imagen 8" descr=""/>
          <p:cNvPicPr/>
          <p:nvPr/>
        </p:nvPicPr>
        <p:blipFill>
          <a:blip r:embed="rId3"/>
          <a:srcRect l="18578" t="23879" r="16562" b="23602"/>
          <a:stretch/>
        </p:blipFill>
        <p:spPr>
          <a:xfrm>
            <a:off x="10429920" y="6175440"/>
            <a:ext cx="1563480" cy="549360"/>
          </a:xfrm>
          <a:prstGeom prst="rect">
            <a:avLst/>
          </a:prstGeom>
          <a:ln w="0">
            <a:noFill/>
          </a:ln>
        </p:spPr>
      </p:pic>
      <p:sp>
        <p:nvSpPr>
          <p:cNvPr id="345" name="CuadroTexto 9"/>
          <p:cNvSpPr/>
          <p:nvPr/>
        </p:nvSpPr>
        <p:spPr>
          <a:xfrm>
            <a:off x="241200" y="7920"/>
            <a:ext cx="1195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767171"/>
                </a:solidFill>
                <a:latin typeface="Calibri"/>
              </a:rPr>
              <a:t>SEMINARIO Y PREMIO INTERNACIONAL </a:t>
            </a:r>
            <a:r>
              <a:rPr b="1" lang="es-ES_tradnl" sz="1600" spc="-1" strike="noStrike">
                <a:solidFill>
                  <a:srgbClr val="595959"/>
                </a:solidFill>
                <a:latin typeface="Calibri"/>
              </a:rPr>
              <a:t>BUENAS PRACTICAS DE GESTION PUBLICA Y SERVICIOS INTELIG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D2907-F55A-4F68-8D93-EB7712BB1F34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avarela@latu.org.uy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26760" y="1841400"/>
            <a:ext cx="10877400" cy="197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5400" spc="-1" strike="noStrike">
                <a:solidFill>
                  <a:srgbClr val="000000"/>
                </a:solidFill>
                <a:latin typeface="Arial"/>
                <a:ea typeface="Arial"/>
              </a:rPr>
              <a:t>¿Se puede mejorar la Gestión Pública?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1668240" y="4642920"/>
            <a:ext cx="9862920" cy="10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Panamá, 11 de junio de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Ing. Quím. Alberto Varela, MS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8080" y="517680"/>
            <a:ext cx="10515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5400" spc="-1" strike="noStrike">
                <a:solidFill>
                  <a:srgbClr val="000000"/>
                </a:solidFill>
                <a:latin typeface="Arial"/>
                <a:ea typeface="Arial"/>
              </a:rPr>
              <a:t>Conclusiones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677520" y="1469520"/>
            <a:ext cx="10675800" cy="46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alibri"/>
              </a:rPr>
              <a:t>Gestión de Calidad debe ser parte de la Gestión de la organización y no algo separado (ISO 9001:2015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a calidad la construyen las person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alibri"/>
              </a:rPr>
              <a:t>Los goles sin pase no val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alibri"/>
              </a:rPr>
              <a:t>Poniéndole onda: juguemos a armar el proces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cesidad de reconocimient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Una Dirección que apoye y esté pres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0" name="Imagen 1" descr=""/>
          <p:cNvPicPr/>
          <p:nvPr/>
        </p:nvPicPr>
        <p:blipFill>
          <a:blip r:embed="rId1"/>
          <a:stretch/>
        </p:blipFill>
        <p:spPr>
          <a:xfrm>
            <a:off x="8831160" y="2844720"/>
            <a:ext cx="171468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52480" y="14191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6000" spc="-1" strike="noStrike">
                <a:solidFill>
                  <a:srgbClr val="000000"/>
                </a:solidFill>
                <a:latin typeface="Arial"/>
                <a:ea typeface="Arial"/>
              </a:rPr>
              <a:t>Muchas Gracias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838080" y="3603600"/>
            <a:ext cx="10515600" cy="18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Ing. Quím. Alberto Varela, MS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563c1"/>
                </a:solidFill>
                <a:uFillTx/>
                <a:latin typeface="Arial"/>
                <a:ea typeface="Arial"/>
                <a:hlinkClick r:id="rId1"/>
              </a:rPr>
              <a:t>avarela@latu.org.u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Departamento de Gestión Organiz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LATU, Urugu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3" name="Picture 6" descr=""/>
          <p:cNvPicPr/>
          <p:nvPr/>
        </p:nvPicPr>
        <p:blipFill>
          <a:blip r:embed="rId2"/>
          <a:stretch/>
        </p:blipFill>
        <p:spPr>
          <a:xfrm>
            <a:off x="466560" y="3873600"/>
            <a:ext cx="387540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8080" y="42228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800" spc="-1" strike="noStrike">
                <a:solidFill>
                  <a:srgbClr val="000000"/>
                </a:solidFill>
                <a:latin typeface="Arial"/>
                <a:ea typeface="Arial"/>
              </a:rPr>
              <a:t>Herramientas de Mejora de Gestión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461520" y="1964880"/>
            <a:ext cx="100378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  <a:ea typeface="Arial"/>
              </a:rPr>
              <a:t>Documentación de procesos</a:t>
            </a:r>
            <a:r>
              <a:rPr b="0" lang="es-UY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  <a:ea typeface="Arial"/>
              </a:rPr>
              <a:t>Gestión por procesos</a:t>
            </a:r>
            <a:r>
              <a:rPr b="0" lang="es-UY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Relevamiento de todos los procesos de la organización, para contar con un Mapeo general de los mismos (</a:t>
            </a:r>
            <a:r>
              <a:rPr b="0" lang="es-UY" sz="2800" spc="-1" strike="noStrike">
                <a:solidFill>
                  <a:srgbClr val="000000"/>
                </a:solidFill>
                <a:latin typeface="Arial"/>
                <a:ea typeface="Arial"/>
              </a:rPr>
              <a:t>identificación,  documentación y conocer sus interrelacion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3" name="Imagen 1" descr=""/>
          <p:cNvPicPr/>
          <p:nvPr/>
        </p:nvPicPr>
        <p:blipFill>
          <a:blip r:embed="rId1"/>
          <a:stretch/>
        </p:blipFill>
        <p:spPr>
          <a:xfrm>
            <a:off x="5861160" y="1442880"/>
            <a:ext cx="1028520" cy="1540080"/>
          </a:xfrm>
          <a:prstGeom prst="rect">
            <a:avLst/>
          </a:prstGeom>
          <a:ln w="0">
            <a:noFill/>
          </a:ln>
        </p:spPr>
      </p:pic>
      <p:pic>
        <p:nvPicPr>
          <p:cNvPr id="524" name="Imagen 2" descr=""/>
          <p:cNvPicPr/>
          <p:nvPr/>
        </p:nvPicPr>
        <p:blipFill>
          <a:blip r:embed="rId2"/>
          <a:stretch/>
        </p:blipFill>
        <p:spPr>
          <a:xfrm>
            <a:off x="8002440" y="2390760"/>
            <a:ext cx="1911600" cy="1389240"/>
          </a:xfrm>
          <a:prstGeom prst="rect">
            <a:avLst/>
          </a:prstGeom>
          <a:ln w="0">
            <a:noFill/>
          </a:ln>
        </p:spPr>
      </p:pic>
      <p:pic>
        <p:nvPicPr>
          <p:cNvPr id="525" name="Imagen 3" descr=""/>
          <p:cNvPicPr/>
          <p:nvPr/>
        </p:nvPicPr>
        <p:blipFill>
          <a:blip r:embed="rId3"/>
          <a:stretch/>
        </p:blipFill>
        <p:spPr>
          <a:xfrm>
            <a:off x="8302680" y="4981680"/>
            <a:ext cx="180972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12720" y="421920"/>
            <a:ext cx="10887120" cy="10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800" spc="-1" strike="noStrike">
                <a:solidFill>
                  <a:srgbClr val="000000"/>
                </a:solidFill>
                <a:latin typeface="Arial"/>
                <a:ea typeface="Arial"/>
              </a:rPr>
              <a:t>Herramientas de Mejora de Gestión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816120" y="1612440"/>
            <a:ext cx="10515600" cy="43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  <a:ea typeface="Arial"/>
              </a:rPr>
              <a:t>Planificación estratég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  <a:ea typeface="Arial"/>
              </a:rPr>
              <a:t>Desarrollo de mediciones (Indicadores de Gestión y de   Proceso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  <a:ea typeface="Arial"/>
              </a:rPr>
              <a:t>Seguimiento y Contr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8" name="Imagen 3" descr=""/>
          <p:cNvPicPr/>
          <p:nvPr/>
        </p:nvPicPr>
        <p:blipFill>
          <a:blip r:embed="rId1"/>
          <a:stretch/>
        </p:blipFill>
        <p:spPr>
          <a:xfrm>
            <a:off x="4219560" y="3979800"/>
            <a:ext cx="1836720" cy="1498680"/>
          </a:xfrm>
          <a:prstGeom prst="rect">
            <a:avLst/>
          </a:prstGeom>
          <a:ln w="0">
            <a:noFill/>
          </a:ln>
        </p:spPr>
      </p:pic>
      <p:pic>
        <p:nvPicPr>
          <p:cNvPr id="529" name="8 Imagen" descr=""/>
          <p:cNvPicPr/>
          <p:nvPr/>
        </p:nvPicPr>
        <p:blipFill>
          <a:blip r:embed="rId2"/>
          <a:stretch/>
        </p:blipFill>
        <p:spPr>
          <a:xfrm>
            <a:off x="7837560" y="3132000"/>
            <a:ext cx="2249280" cy="21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31360" y="422280"/>
            <a:ext cx="110286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800" spc="-1" strike="noStrike">
                <a:solidFill>
                  <a:srgbClr val="000000"/>
                </a:solidFill>
                <a:latin typeface="Arial"/>
                <a:ea typeface="Arial"/>
              </a:rPr>
              <a:t>Herramientas de Mejora de Gestión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1042920" y="1709280"/>
            <a:ext cx="9360000" cy="31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Mejora de Gestión a través de Sistemas de Gestión según requisitos propi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Implementación de Sistemas de Gestión según normativas con posibilidades de certificación y acreditación de terceras partes y reconocimiento internacion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31360" y="422280"/>
            <a:ext cx="110286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800" spc="-1" strike="noStrike">
                <a:solidFill>
                  <a:srgbClr val="000000"/>
                </a:solidFill>
                <a:latin typeface="Arial"/>
                <a:ea typeface="Arial"/>
              </a:rPr>
              <a:t>Herramientas de Mejora de Gestión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387360" y="1785960"/>
            <a:ext cx="1133784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  <a:ea typeface="Arial"/>
              </a:rPr>
              <a:t>Desarrollo de sistemas de gestión que sustenten Cartas de Servici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4" name="Imagen 1" descr=""/>
          <p:cNvPicPr/>
          <p:nvPr/>
        </p:nvPicPr>
        <p:blipFill>
          <a:blip r:embed="rId1"/>
          <a:stretch/>
        </p:blipFill>
        <p:spPr>
          <a:xfrm>
            <a:off x="6583320" y="2897280"/>
            <a:ext cx="3578400" cy="2685960"/>
          </a:xfrm>
          <a:prstGeom prst="rect">
            <a:avLst/>
          </a:prstGeom>
          <a:ln w="0">
            <a:noFill/>
          </a:ln>
        </p:spPr>
      </p:pic>
      <p:pic>
        <p:nvPicPr>
          <p:cNvPr id="535" name="Imagen 2" descr=""/>
          <p:cNvPicPr/>
          <p:nvPr/>
        </p:nvPicPr>
        <p:blipFill>
          <a:blip r:embed="rId2"/>
          <a:stretch/>
        </p:blipFill>
        <p:spPr>
          <a:xfrm>
            <a:off x="1461960" y="3110040"/>
            <a:ext cx="3175200" cy="16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94920" y="421920"/>
            <a:ext cx="1145052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800" spc="-1" strike="noStrike">
                <a:solidFill>
                  <a:srgbClr val="000000"/>
                </a:solidFill>
                <a:latin typeface="Arial"/>
                <a:ea typeface="Arial"/>
              </a:rPr>
              <a:t>Herramientas de Mejora de Gestión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84200" y="1537920"/>
            <a:ext cx="93693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  <a:ea typeface="Arial"/>
              </a:rPr>
              <a:t>Modelo de Calidad con Equidad de Género: guía para la implementación de un Sistema de Gestión de Calidad con Equidad de Género de carácter certificable en forma voluntari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  <a:ea typeface="Arial"/>
              </a:rPr>
              <a:t>Presentación a Premios otorgados por Institutos Nacionales de Calidad (Uruguay: Instituto Nacional de Calidad – INACAL) – Premio Compromiso con la Gestión Pública (desarrollado por INACAL y LATU), </a:t>
            </a:r>
            <a:r>
              <a:rPr b="0" lang="es-UY" sz="2800" spc="-1" strike="noStrike">
                <a:solidFill>
                  <a:srgbClr val="000000"/>
                </a:solidFill>
                <a:latin typeface="Arial"/>
                <a:ea typeface="Arial"/>
              </a:rPr>
              <a:t>Premio Nacional de Calid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8" name="Imagen 3" descr=""/>
          <p:cNvPicPr/>
          <p:nvPr/>
        </p:nvPicPr>
        <p:blipFill>
          <a:blip r:embed="rId1"/>
          <a:stretch/>
        </p:blipFill>
        <p:spPr>
          <a:xfrm>
            <a:off x="9853560" y="1736640"/>
            <a:ext cx="156384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67800" y="463680"/>
            <a:ext cx="10836360" cy="95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Arial"/>
                <a:ea typeface="Arial"/>
              </a:rPr>
              <a:t>Elementos que se deben fortalecer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525600" y="1709280"/>
            <a:ext cx="10515600" cy="43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Visualizar y gestionar por proces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Trabajar en pos de la mejora continu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Tomar las decisiones basadas en los hecho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(con registros objetivo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El trabajo en equip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Establecer objetivos, indicadores, metas y acciones con responsables y plazos (Matriz de Objetivo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Arial"/>
                <a:ea typeface="Arial"/>
              </a:rPr>
              <a:t>Identidad de la Organización: Misión –Visión - Valo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1" name="Picture 7" descr=""/>
          <p:cNvPicPr/>
          <p:nvPr/>
        </p:nvPicPr>
        <p:blipFill>
          <a:blip r:embed="rId1"/>
          <a:stretch/>
        </p:blipFill>
        <p:spPr>
          <a:xfrm>
            <a:off x="8399520" y="2470320"/>
            <a:ext cx="2700360" cy="174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8080" y="584280"/>
            <a:ext cx="10515600" cy="95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  <a:ea typeface="Arial"/>
              </a:rPr>
              <a:t>Elementos que se deben fortalece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601200" y="1275840"/>
            <a:ext cx="7929720" cy="475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Sentido de pertenencia y compromiso organizacion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Arial"/>
                <a:ea typeface="Arial"/>
              </a:rPr>
              <a:t>El Orgullo de “servidor público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Arial"/>
                <a:ea typeface="Arial"/>
              </a:rPr>
              <a:t>Innovación y creativid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Enfoque al cliente y su satisfac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  <a:ea typeface="Arial"/>
              </a:rPr>
              <a:t>Involucramien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  <a:ea typeface="Arial"/>
              </a:rPr>
              <a:t>Quienes diseñan la mejora son aquellos que más saben de los procesos (los funcionario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  <a:ea typeface="Arial"/>
              </a:rPr>
              <a:t>Comunicación organizacional</a:t>
            </a:r>
            <a:r>
              <a:rPr b="0" lang="es-UY" sz="2800" spc="-1" strike="noStrike">
                <a:solidFill>
                  <a:srgbClr val="000000"/>
                </a:solidFill>
                <a:latin typeface="Arial"/>
                <a:ea typeface="Arial"/>
              </a:rPr>
              <a:t> (interna y extern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4" name="Picture 9" descr="burocracia"/>
          <p:cNvPicPr/>
          <p:nvPr/>
        </p:nvPicPr>
        <p:blipFill>
          <a:blip r:embed="rId1"/>
          <a:stretch/>
        </p:blipFill>
        <p:spPr>
          <a:xfrm>
            <a:off x="8531280" y="1546200"/>
            <a:ext cx="2512800" cy="28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58720" y="422280"/>
            <a:ext cx="1105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  <a:ea typeface="Arial"/>
              </a:rPr>
              <a:t>Para asegurar el mantenimiento de las mejoras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838080" y="1857240"/>
            <a:ext cx="10515600" cy="33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-2286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Particip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Motiv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Compromis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Text Box 4"/>
          <p:cNvSpPr/>
          <p:nvPr/>
        </p:nvSpPr>
        <p:spPr>
          <a:xfrm>
            <a:off x="838080" y="4370400"/>
            <a:ext cx="10941120" cy="9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...porque no es lo que importa llegar solo ni pronto sino llegar con todos y a tiempo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León Fel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31T22:15:56Z</dcterms:created>
  <dc:creator>latu</dc:creator>
  <dc:description/>
  <dc:language>en-US</dc:language>
  <cp:lastModifiedBy>Víctor</cp:lastModifiedBy>
  <cp:lastPrinted>2015-05-28T13:19:01Z</cp:lastPrinted>
  <dcterms:modified xsi:type="dcterms:W3CDTF">2015-06-10T06:32:17Z</dcterms:modified>
  <cp:revision>25</cp:revision>
  <dc:subject/>
  <dc:title>Diapositiva 1</dc:title>
</cp:coreProperties>
</file>